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335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1A02-2B28-48AF-9CCA-0EB94F141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4152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21336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3DF7-06B8-4B05-A4E9-BCB414E63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4152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4152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21336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21336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EDC6-DF11-450A-AD82-8BFF8D675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54152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54152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54152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21336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21336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21336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E6B6-F120-4503-8AC8-64C6BA17D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5415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6C0E-4E09-4F5F-ACDF-BEF2DE0B1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5415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696A-8C37-4F11-BC6D-BA0B5F19E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4152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54152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3399-021E-4F64-8018-D7C454125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6442-4AE8-4B92-AC51-6E18BAC06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74480"/>
            <a:ext cx="77724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2587-E981-43F6-BBC0-B8B8FF6A0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4152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54152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21336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F968-285D-493A-B562-51BE022C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4152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4152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21336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31E7-D020-4616-AC6A-81F11ABF8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4152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4152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21336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9F7A-623E-4854-9588-DA573EF2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415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79840" indent="-175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31920" indent="-1756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584000" indent="-1756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584000" indent="-1756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584000" indent="-1756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4859280"/>
            <a:ext cx="19051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8592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4859280"/>
            <a:ext cx="19051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1293C-14AC-4FB1-865A-D092687585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876400" y="1246320"/>
          <a:ext cx="449604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6400" y="1246320"/>
                    <a:ext cx="449604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380880" y="-155520"/>
          <a:ext cx="8229600" cy="5489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-155520"/>
                    <a:ext cx="8229600" cy="54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3:41:24Z</dcterms:created>
  <dc:creator>Steve Collie</dc:creator>
  <dc:description/>
  <dc:language>en-US</dc:language>
  <cp:lastModifiedBy>Steve Collie</cp:lastModifiedBy>
  <dcterms:modified xsi:type="dcterms:W3CDTF">2002-12-11T04:38:22Z</dcterms:modified>
  <cp:revision>1</cp:revision>
  <dc:subject/>
  <dc:title>PowerPoint Presentation</dc:title>
</cp:coreProperties>
</file>