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DFC-8660-4D8B-ACD2-2B46D2B6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428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6220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7272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1C8-E5E4-484D-B1E0-8F4CB515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428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62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62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727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6727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7FA-872B-4EC9-BFD9-30F97E9C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428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622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622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622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727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6727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6727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9E3-FD86-48C4-ACC5-F67D5F86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428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62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6B17-BC47-484C-9133-21F550C8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428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62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C00-FA7C-4137-909B-BD58D510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428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6220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6220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58D3-2C7A-4586-93D2-38D64A84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428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CCD-9127-47EA-AE47-EF48D93F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42880"/>
            <a:ext cx="77724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3BC-7154-4F13-87E1-083218B5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428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62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6220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727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B5F-E999-4583-A306-E5C85646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428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6220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62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6727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712-E4EC-4326-B8A4-8C0AABAA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428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62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62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7272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A81C-909E-4293-955A-B0E66C70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428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62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5552640"/>
            <a:ext cx="19051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52640"/>
            <a:ext cx="28958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5552640"/>
            <a:ext cx="19051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1502-B40E-4E76-A7EF-A791E1909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152280" y="-152280"/>
          <a:ext cx="9524880" cy="666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-152280"/>
                    <a:ext cx="9524880" cy="66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21:26:12Z</dcterms:created>
  <dc:creator>Steve Collie</dc:creator>
  <dc:description/>
  <dc:language>en-US</dc:language>
  <cp:lastModifiedBy>Steve Collie</cp:lastModifiedBy>
  <dcterms:modified xsi:type="dcterms:W3CDTF">2003-01-02T21:26:40Z</dcterms:modified>
  <cp:revision>1</cp:revision>
  <dc:subject/>
  <dc:title>PowerPoint Presentation</dc:title>
</cp:coreProperties>
</file>